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B2C-E050-4272-BC27-25FD09D0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1E0-D068-4880-9F2C-B81DC2F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EC1-F819-4DA9-9650-6490A3C3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F5C-8D3F-4F9A-850D-62CD0676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254-AABA-4943-92F2-A2586DD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441-EA4C-43E0-B1D1-10321D3B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E5F-8816-4ACC-818F-DBB94F4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9ED-F712-428F-9A42-D04F0B45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C91-E64D-4B4D-BB9B-2810A57A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9D0-8267-45D0-8080-90DC49F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DB7-9F14-4CA8-9931-2BD0724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48C-7ADF-46D6-A5B5-919F1855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E2A-D8CD-4A89-B65A-A032ECAB8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1793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246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7920" y="3352680"/>
          <a:ext cx="6095880" cy="2371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itzsimm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 Mall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M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L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ic Lu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cret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Hay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nera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d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Irw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usiness Co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200400" y="13716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98760" y="270828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7432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ales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2205000"/>
            <a:ext cx="3888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every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customer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2205000"/>
            <a:ext cx="3887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ights filled generates more pro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the airline to offer a more competitive p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9200" y="333360"/>
            <a:ext cx="977760" cy="165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nning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916280"/>
            <a:ext cx="38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ing of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1916280"/>
            <a:ext cx="3887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gh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prediction increases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venue enables airline to offer more competitiv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 remains viable and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 expands into new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4360" y="184464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ata storag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ays of structuring data into usefu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and advance data mod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Issu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572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ustomer Services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ustomers have confi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i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serv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ing se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premier miles or premier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uring passengers are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te on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d for automatically and distributed more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lists of customers not yet at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ther bene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ief Pilot, flight attendants and catering se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cket ag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in desk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1625400" cy="18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3860640"/>
            <a:ext cx="21430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reas out of scope of this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te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your 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 syste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side to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eng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riv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out confir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1827000" cy="172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32720" y="2852640"/>
            <a:ext cx="1780920" cy="178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as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llel conver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s integrated one b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ers most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difficult to implement but wor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74508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in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benefit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762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nagement informat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rketing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ales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Services Mana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80000" y="2205000"/>
            <a:ext cx="2857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1793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7920" y="3352680"/>
          <a:ext cx="6095880" cy="2371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itzsimm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 Mall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M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L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ic Lu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cret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Hay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nera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d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Irw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usiness Co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00400" y="13716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498760" y="270828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7432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Hello and 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Convolo extends a warm welcome to you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re we and what do we repre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formation Team Convolo have based this presentation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ustomers: Why conside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are the most vital part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are concerned with the end result of the system – not 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2759040" cy="218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4292640"/>
            <a:ext cx="29368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How we have focused on the cust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considered how every operational units role will have effected th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make it impossible for customers to see any major operation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nefits to the custo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s benefit if the proposed system is implemen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 to main benefi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efficiency and accuracy of systems will benefit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system will instil customer conf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straints and costs for the cust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quirements and needs must always be paramount. Example - Must be able to book, reserve and cancel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83400" y="180972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4000" y="501336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failure will see loss     of customers, and thus loss      of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18208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32000" y="2060640"/>
            <a:ext cx="2592360" cy="24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880" y="8366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er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440" y="58053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5440" y="56610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 term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9240" y="692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63280" y="1197000"/>
            <a:ext cx="158436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23040" y="1113480"/>
            <a:ext cx="1614600" cy="1372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19280" y="4221000"/>
            <a:ext cx="194472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4221000"/>
            <a:ext cx="165564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rketing 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060640"/>
            <a:ext cx="38876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customer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fe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book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information on previous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060640"/>
            <a:ext cx="3887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argeting of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ustomer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book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overbooking predictions – mor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3:51:18Z</dcterms:created>
  <dc:creator>mcaiytf2</dc:creator>
  <dc:description/>
  <dc:language>en-US</dc:language>
  <cp:lastModifiedBy>mcaiytf2</cp:lastModifiedBy>
  <dcterms:modified xsi:type="dcterms:W3CDTF">2002-12-13T12:14:24Z</dcterms:modified>
  <cp:revision>22</cp:revision>
  <dc:subject/>
  <dc:title>Management Information System</dc:title>
</cp:coreProperties>
</file>